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9E802-314F-40A3-9D45-6A92E6F89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B3F56-A58E-45CE-BC20-57ABE609F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64DBC-A6FB-4E82-A243-71D79C5A7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7D122-3F78-491C-BE0C-C96B5B9C3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2AFCB-85C9-46BA-9716-ABABBFEB4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3727E-1CBB-478D-84D6-02866B853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F130B-86FB-4A28-A9EA-5FE6CE5E5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CCEB8-A072-4D35-8ACD-50B278C5C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F83EE-EFE0-401A-8094-1D9095C31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E160A-70B8-4CFF-9CB1-72DC58A0A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F9C6B-D089-4EDD-B2E6-2ACC0E6A5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015D1-C51C-41F7-874B-ED62A8A48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77E2-F787-4D29-8EDE-CD3B87AE5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Using Electricity on the Job</a:t>
            </a:r>
            <a:br>
              <a:rPr sz="4000"/>
            </a:br>
            <a:r>
              <a:rPr b="0" lang="en-US" sz="4000" spc="-1" strike="noStrike">
                <a:solidFill>
                  <a:srgbClr val="000000"/>
                </a:solidFill>
                <a:latin typeface="Arial"/>
              </a:rPr>
              <a:t>Unit Plan Summary</a:t>
            </a:r>
            <a:br>
              <a:rPr sz="4000"/>
            </a:br>
            <a:br>
              <a:rPr sz="4000"/>
            </a:br>
            <a:r>
              <a:rPr b="0" lang="en-US" sz="4000" spc="-1" strike="noStrike">
                <a:solidFill>
                  <a:srgbClr val="000000"/>
                </a:solidFill>
                <a:latin typeface="Arial"/>
              </a:rPr>
              <a:t>Students new to the construction trades program will need to learn skills and knowledge in the safe use of power tools.  They will research what safety features have been included in the manufacturing of tool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about different kinds of technology that will motivate my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some strategies that will help students research current and future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ways to get my students to think beyond their comfort z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Question</a:t>
            </a:r>
            <a:br>
              <a:rPr sz="4000"/>
            </a:br>
            <a:br>
              <a:rPr sz="4000"/>
            </a:br>
            <a:r>
              <a:rPr b="0" lang="en-US" sz="4000" spc="-1" strike="noStrike">
                <a:solidFill>
                  <a:srgbClr val="000000"/>
                </a:solidFill>
                <a:latin typeface="Arial"/>
              </a:rPr>
              <a:t>How are we affected by energ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Questio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ake appliances sa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incorporate technology in creating safety features in our power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is available that could be used to improve power tool safety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Our Tools Saf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do we use to develop safety features in our electrical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ake our tools more sa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Tool Featur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G FCI outlet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mprovements have been added to some table saw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Connec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can we find information on power tool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is available that we can potentially use to improve safer to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uging Students Need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use essential questions and unit questions to:</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out what knowledge my incoming students have in the technology of power tools used in our workplac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rmation on higher order thinking and 21</a:t>
            </a:r>
            <a:r>
              <a:rPr b="0" lang="en-US" sz="2800" spc="-1" strike="noStrike" baseline="30000">
                <a:solidFill>
                  <a:srgbClr val="000000"/>
                </a:solidFill>
                <a:latin typeface="Arial"/>
              </a:rPr>
              <a:t>st</a:t>
            </a:r>
            <a:r>
              <a:rPr b="0" lang="en-US" sz="2800" spc="-1" strike="noStrike">
                <a:solidFill>
                  <a:srgbClr val="000000"/>
                </a:solidFill>
                <a:latin typeface="Arial"/>
              </a:rPr>
              <a:t> Century Skills:</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aking specific topics in the technology of power tools in their live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researching new technology currently not used in power tool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s</a:t>
            </a:r>
            <a:endParaRPr b="0" lang="en-US" sz="4000" spc="-1" strike="noStrike">
              <a:solidFill>
                <a:srgbClr val="000000"/>
              </a:solidFill>
              <a:latin typeface="Arial"/>
            </a:endParaRPr>
          </a:p>
        </p:txBody>
      </p:sp>
      <p:sp>
        <p:nvSpPr>
          <p:cNvPr id="57" name="PlaceHolder 2"/>
          <p:cNvSpPr>
            <a:spLocks noGrp="1"/>
          </p:cNvSpPr>
          <p:nvPr>
            <p:ph/>
          </p:nvPr>
        </p:nvSpPr>
        <p:spPr>
          <a:xfrm>
            <a:off x="53352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 will learn from the assess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udents consider safe use of power to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y students present their knowledge of power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54:12Z</dcterms:created>
  <dc:creator>Jim Cox</dc:creator>
  <dc:description/>
  <dc:language>en-US</dc:language>
  <cp:lastModifiedBy>Jim Cox</cp:lastModifiedBy>
  <dcterms:modified xsi:type="dcterms:W3CDTF">2010-08-06T16:52:38Z</dcterms:modified>
  <cp:revision>8</cp:revision>
  <dc:subject/>
  <dc:title>Using Electricity on the Job </dc:title>
</cp:coreProperties>
</file>